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2924280"/>
            <a:ext cx="684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проблемы педиат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ор Иван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ымский государственный медицинский университет им. С.И. Георгиев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мунная сис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пецифический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ий адаптационный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ные регуля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ые 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ые 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ые 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пецифический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ий адапта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6:04:57Z</dcterms:created>
  <dc:creator>1</dc:creator>
  <dc:description/>
  <dc:language>en-US</dc:language>
  <cp:lastModifiedBy>Da</cp:lastModifiedBy>
  <dcterms:modified xsi:type="dcterms:W3CDTF">2008-06-08T15:01:17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