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4" descr="ppt_2.jpg"/>
          <p:cNvPicPr/>
          <p:nvPr/>
        </p:nvPicPr>
        <p:blipFill>
          <a:blip r:embed="rId2"/>
          <a:stretch/>
        </p:blipFill>
        <p:spPr>
          <a:xfrm>
            <a:off x="0" y="0"/>
            <a:ext cx="9112320" cy="6881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Рисунок 4" descr="ppt_1.jpg"/>
          <p:cNvPicPr/>
          <p:nvPr/>
        </p:nvPicPr>
        <p:blipFill>
          <a:blip r:embed="rId1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31640" y="2479680"/>
            <a:ext cx="684036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временные проблемы педиатр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406404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фессор Иванов И.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ымский государственный медицинский университет им. С.И. Георгиевс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ммунная систем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специфический иммунит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фический адаптационный иммунит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мунные регуля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мунные нару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мунные нару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мунные нару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специфический иммунит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вод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ает естественную резистентность и защиту против микробных аг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ает естественную резистентность и защиту против микробных аг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ает естественную резистентность и защиту против микробных аг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пасибо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06:04:57Z</dcterms:created>
  <dc:creator>1</dc:creator>
  <dc:description/>
  <dc:language>en-US</dc:language>
  <cp:lastModifiedBy>Admin</cp:lastModifiedBy>
  <dcterms:modified xsi:type="dcterms:W3CDTF">2009-03-15T18:20:44Z</dcterms:modified>
  <cp:revision>7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